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AEF-43D2-4D83-AE15-B94CEC5F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AA7-BD48-4639-B49E-0642E516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ACF-A9DA-4403-809A-3CFA8C95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8DF-0148-486B-809A-88578877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B58-3E1D-4A66-8ACB-86B27188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123-A1CE-4B9A-B27C-31BE6B96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AFF-F282-42CA-BD15-E27994FB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66C-DB33-49E7-8BAC-6992ED9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E05-5FE9-4C86-A6CF-E8DFEF2A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778-FB5B-4900-9687-6783752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9E5-709D-4202-AF56-C6A7216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3BE-77B6-41C4-B31B-EB250EC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BA60-3456-4E8F-AA45-A4BBE80505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4544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4529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848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3520" y="836640"/>
            <a:ext cx="8880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4818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5240" y="495360"/>
            <a:ext cx="8813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1:34:16Z</dcterms:created>
  <dc:creator>이훈삼</dc:creator>
  <dc:description/>
  <dc:language>en-US</dc:language>
  <cp:lastModifiedBy>이훈삼</cp:lastModifiedBy>
  <dcterms:modified xsi:type="dcterms:W3CDTF">2013-02-22T03:39:37Z</dcterms:modified>
  <cp:revision>2</cp:revision>
  <dc:subject/>
  <dc:title>슬라이드 1</dc:title>
</cp:coreProperties>
</file>